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telephone.wav" ContentType="audio/x-wav"/>
  <Override PartName="/ppt/media/shiphorn.wav" ContentType="audio/x-wav"/>
  <Override PartName="/ppt/media/zapbig0g.wav" ContentType="audio/x-wav"/>
  <Override PartName="/ppt/media/zipup202.wav" ContentType="audio/x-wav"/>
  <Override PartName="/ppt/media/children%20yeah.wav" ContentType="audio/x-wav"/>
  <Override PartName="/ppt/media/driveby.wav" ContentType="audio/x-wav"/>
  <Override PartName="/ppt/media/zipby102.wav" ContentType="audio/x-wav"/>
  <Override PartName="/ppt/media/boinng04.wav" ContentType="audio/x-wav"/>
  <Override PartName="/ppt/media/bserie06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95F-0EDA-4FEA-AD5B-210279FC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45E-E5EA-43BC-9A46-16EA34A8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99C-74D0-4F2C-BB89-9202F215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BD3-1BF7-44FE-BECD-1170875C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6B7-12A1-41BC-A05D-AF765EAE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4ED-5598-4EF2-98D9-7125E527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AE9-1B59-47D4-B879-B99F8B51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D6D-6A0A-466B-9CFE-E59067E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54C-6B6E-4410-BFF0-DC9AE3B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D4B-C7C2-4C64-AC41-77CD137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D8F-2EC4-4DED-BEC2-ACB0E01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E5C-90FE-4E4F-AA01-2B8DC8F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9CC-1AF5-406D-A75F-B5051D532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telephone.wav"/><Relationship Id="rId4" Type="http://schemas.openxmlformats.org/officeDocument/2006/relationships/audio" Target="../media/shiphorn.wav"/><Relationship Id="rId5" Type="http://schemas.openxmlformats.org/officeDocument/2006/relationships/audio" Target="../media/zipup202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zipby10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zipby102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zipby102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zipby102.wav"/><Relationship Id="rId19" Type="http://schemas.openxmlformats.org/officeDocument/2006/relationships/audio" Target="../media/children%20yeah.wav"/><Relationship Id="rId20" Type="http://schemas.openxmlformats.org/officeDocument/2006/relationships/audio" Target="../media/children%20yeah.wav"/><Relationship Id="rId21" Type="http://schemas.openxmlformats.org/officeDocument/2006/relationships/audio" Target="../media/children%20yeah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shiphorn.wav"/><Relationship Id="rId3" Type="http://schemas.openxmlformats.org/officeDocument/2006/relationships/audio" Target="../media/zipup202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zipby102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zipby102.wav"/><Relationship Id="rId13" Type="http://schemas.openxmlformats.org/officeDocument/2006/relationships/audio" Target="../media/driveby.wav"/><Relationship Id="rId14" Type="http://schemas.openxmlformats.org/officeDocument/2006/relationships/audio" Target="../media/children%20yeah.wav"/><Relationship Id="rId15" Type="http://schemas.openxmlformats.org/officeDocument/2006/relationships/audio" Target="../media/children%20yeah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elephone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77920" y="2109960"/>
                <a:ext cx="814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a Polynomial by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595520" y="3141720"/>
            <a:ext cx="534960" cy="355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98680" y="2878200"/>
                <a:ext cx="416376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95560" y="2754360"/>
                <a:ext cx="47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103560" y="2790720"/>
                <a:ext cx="47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00200" y="4923000"/>
                <a:ext cx="15508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56040" y="4989600"/>
                <a:ext cx="982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1825560" y="3906360"/>
            <a:ext cx="389160" cy="3891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616120" y="2859120"/>
                <a:ext cx="528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370240" y="1176480"/>
            <a:ext cx="4105080" cy="9774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vide each term of the numerator by  6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20840" y="3125520"/>
            <a:ext cx="463680" cy="3697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149560" y="3968640"/>
            <a:ext cx="463320" cy="3700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81480" y="3165480"/>
            <a:ext cx="555480" cy="29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78320" y="3897360"/>
            <a:ext cx="387360" cy="387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11760" y="3060720"/>
            <a:ext cx="293400" cy="13399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08520" y="3176280"/>
            <a:ext cx="611280" cy="330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88120" y="2768760"/>
                <a:ext cx="43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4826160" y="3881520"/>
            <a:ext cx="387360" cy="387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044960" y="4589640"/>
                <a:ext cx="113652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35080" y="1084320"/>
                <a:ext cx="8294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6880" y="2192400"/>
                <a:ext cx="4538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008000" y="5573880"/>
                <a:ext cx="2470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29080" y="5205240"/>
                <a:ext cx="2017800" cy="17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276720" y="1646280"/>
                <a:ext cx="7952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450040" y="2201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rite in standard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951200" y="2797200"/>
                <a:ext cx="24732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080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868480" y="3552840"/>
                <a:ext cx="117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971880" y="3567240"/>
                <a:ext cx="107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–9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38480" y="1654200"/>
                <a:ext cx="841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827440" y="4010040"/>
                <a:ext cx="2187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825640" y="4003560"/>
                <a:ext cx="574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946680" y="40035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56160" y="4684680"/>
                <a:ext cx="420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y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4440" y="1101600"/>
                <a:ext cx="6856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3440" y="2192400"/>
                <a:ext cx="42098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08000" y="5630760"/>
                <a:ext cx="24703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606840" y="5256360"/>
                <a:ext cx="18619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238560" y="1692360"/>
                <a:ext cx="795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450040" y="188424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Insert place-holding te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24200" y="2843280"/>
                <a:ext cx="21920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6560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316320" y="3524400"/>
                <a:ext cx="795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087800" y="3529080"/>
                <a:ext cx="84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83040" y="1690560"/>
                <a:ext cx="8413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98680" y="4056120"/>
                <a:ext cx="16178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889360" y="4133880"/>
                <a:ext cx="522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84480" y="4003560"/>
                <a:ext cx="574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481640" y="4684680"/>
                <a:ext cx="420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41200" y="1081080"/>
                <a:ext cx="839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1200" y="2192400"/>
                <a:ext cx="46324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4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008000" y="5630760"/>
                <a:ext cx="24703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529080" y="5256360"/>
                <a:ext cx="20178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238560" y="1692360"/>
                <a:ext cx="795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5450040" y="2182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rite in standard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865160" y="2843280"/>
                <a:ext cx="242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85264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051000" y="3524400"/>
                <a:ext cx="1216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143240" y="3529080"/>
                <a:ext cx="84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983040" y="1690560"/>
                <a:ext cx="8413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949480" y="4056120"/>
                <a:ext cx="2282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863800" y="4003560"/>
                <a:ext cx="574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040280" y="40035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35560" y="4665600"/>
                <a:ext cx="70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4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1960" y="2109960"/>
                <a:ext cx="78598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a Polynomial by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86000" y="3216240"/>
            <a:ext cx="534960" cy="355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93960" y="2979720"/>
                <a:ext cx="336852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86040" y="2828880"/>
                <a:ext cx="47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27280" y="2916360"/>
                <a:ext cx="860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41640" y="4811760"/>
                <a:ext cx="1550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22680" y="4853160"/>
                <a:ext cx="93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V="1">
            <a:off x="2516040" y="3981600"/>
            <a:ext cx="389160" cy="3888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32080" y="2774880"/>
                <a:ext cx="528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2370240" y="1176480"/>
            <a:ext cx="4105080" cy="9774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vide each term of the numerator by  -3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11320" y="3200040"/>
            <a:ext cx="463680" cy="3697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40040" y="4043160"/>
            <a:ext cx="463680" cy="3697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71960" y="3240000"/>
            <a:ext cx="555480" cy="29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87880" y="3990600"/>
            <a:ext cx="592200" cy="351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858920" y="3227040"/>
            <a:ext cx="96840" cy="1228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8680" y="1065240"/>
                <a:ext cx="75261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20640" y="2190600"/>
                <a:ext cx="39769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19320" y="5630760"/>
                <a:ext cx="2125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27480" y="5256360"/>
                <a:ext cx="18604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9392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74880" y="2862360"/>
                <a:ext cx="1774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6204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22680" y="3032280"/>
                <a:ext cx="5220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73280" y="3619440"/>
                <a:ext cx="1168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11600" y="3603600"/>
                <a:ext cx="84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–5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86040" y="1655640"/>
                <a:ext cx="84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73280" y="4122720"/>
                <a:ext cx="1916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46280" y="4095720"/>
                <a:ext cx="57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649680" y="4098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794040" y="470844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85760" y="1065240"/>
                <a:ext cx="7813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5480" y="2190600"/>
                <a:ext cx="425628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5630760"/>
                <a:ext cx="2125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74920" y="5256360"/>
                <a:ext cx="19652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9392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01880" y="2862360"/>
                <a:ext cx="18684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0020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60352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00240" y="3600360"/>
                <a:ext cx="795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68760" y="3625920"/>
                <a:ext cx="107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9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686040" y="1655640"/>
                <a:ext cx="84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949480" y="4122720"/>
                <a:ext cx="187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71840" y="4226040"/>
                <a:ext cx="5205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49680" y="4098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062240" y="4703760"/>
                <a:ext cx="654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4440" y="1084320"/>
                <a:ext cx="8292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5760" y="2190600"/>
                <a:ext cx="47703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3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76200" y="5630760"/>
                <a:ext cx="201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32080" y="5256360"/>
                <a:ext cx="22748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7184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2200" y="2862360"/>
                <a:ext cx="21477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37628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0352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664000" y="3600360"/>
                <a:ext cx="1169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762360" y="3603600"/>
                <a:ext cx="1076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–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010040" y="167796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666880" y="4086360"/>
                <a:ext cx="2103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620800" y="4095720"/>
                <a:ext cx="57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86120" y="4173480"/>
                <a:ext cx="522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740040" y="4726080"/>
                <a:ext cx="107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39840" y="1084320"/>
                <a:ext cx="810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7160" y="2135160"/>
                <a:ext cx="4537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2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19320" y="5630760"/>
                <a:ext cx="2125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82840" y="5256360"/>
                <a:ext cx="21718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7184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33400" y="2862360"/>
                <a:ext cx="20545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628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66076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00240" y="3600360"/>
                <a:ext cx="795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24280" y="3603600"/>
                <a:ext cx="84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89440" y="1654200"/>
                <a:ext cx="841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59280" y="4086360"/>
                <a:ext cx="1542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46360" y="4226040"/>
                <a:ext cx="52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60920" y="4043520"/>
                <a:ext cx="57312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81320" y="4703760"/>
                <a:ext cx="468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33360" y="1103400"/>
                <a:ext cx="7815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8640" y="2154240"/>
                <a:ext cx="44434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4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79320" y="5611680"/>
                <a:ext cx="2757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86160" y="5256360"/>
                <a:ext cx="19652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976480" y="1635120"/>
                <a:ext cx="795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4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754280" y="2862360"/>
                <a:ext cx="25686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7628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6688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506680" y="3581280"/>
                <a:ext cx="14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21040" y="3603600"/>
                <a:ext cx="107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31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735360" y="1654200"/>
                <a:ext cx="10746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470320" y="4086360"/>
                <a:ext cx="2759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2880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452680" y="409572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78200" y="4098960"/>
                <a:ext cx="57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21280" y="4684680"/>
                <a:ext cx="1028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5960" y="1103400"/>
                <a:ext cx="839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8600" y="2154240"/>
                <a:ext cx="48657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25600" y="5630760"/>
                <a:ext cx="3101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54280" y="5256360"/>
                <a:ext cx="196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43280" y="1671480"/>
                <a:ext cx="1216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568520" y="2862360"/>
                <a:ext cx="29415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81040" y="2933640"/>
                <a:ext cx="574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9080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79640" y="3581280"/>
                <a:ext cx="14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265640" y="358920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15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922560" y="1654200"/>
                <a:ext cx="107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78120" y="4105440"/>
                <a:ext cx="2478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70200" y="411480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21280" y="4191120"/>
                <a:ext cx="5220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75200" y="4684680"/>
                <a:ext cx="112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38040" y="1084320"/>
                <a:ext cx="6616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6600" y="2192400"/>
                <a:ext cx="4257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4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96960" y="5630760"/>
                <a:ext cx="2757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554280" y="5256360"/>
                <a:ext cx="196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19480" y="1671480"/>
                <a:ext cx="79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5450040" y="18288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Insert place-holding te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27080" y="2843280"/>
                <a:ext cx="25210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6560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38560" y="3581280"/>
                <a:ext cx="1028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265640" y="358920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1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22560" y="1677960"/>
                <a:ext cx="107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47920" y="4068720"/>
                <a:ext cx="20574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795760" y="4245120"/>
                <a:ext cx="522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151160" y="4060800"/>
                <a:ext cx="574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416480" y="4684680"/>
                <a:ext cx="70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4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3-02-24T12:19:20Z</dcterms:modified>
  <cp:revision>331</cp:revision>
  <dc:subject/>
  <dc:title>No Slide Title</dc:title>
</cp:coreProperties>
</file>